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1D9-B4EC-43AE-8239-FE946D94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F5B-DF69-46C4-AA32-85F48A5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810-A78B-474B-B0C8-9C3CFC54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A76-373B-486D-8804-D0F43B2F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7DD-995F-4D49-A57B-754DD2D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704-BD28-4B25-983B-9D3486D1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99F-A9FA-4515-B520-D9A23BD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8E1-CDD3-4380-83B0-B5D379F1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D9D-CCAD-46CB-A3A6-2FEC7884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35C-9068-43DA-B545-6FE7A2D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530-70F3-46AF-9DFE-DADF697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776-EF1D-4168-BA35-F7D733B7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5F3-C547-4BD0-AB6B-42D35BBED9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ECTIONAL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aining th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rnalism, generosity, prosp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defended on the grounds of race/relig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ern 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ired by evangelical Protestan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erson free and respons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tyrannical and im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 conflict of ideals both culturally and intellectu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roblem of Slavery in the Mexican Ce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xican War/Cession of 1848 puts status of slavery in new territory into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le over the Wilmot Provis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o keep free blacks and slavery out of new territories gained form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t down in Congress which foreshadows sectional conflict of 1850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sence of federal authority to regulate slavery limits Northern abolitioni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ing a Compro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ry Clay’s 1850 compromis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ifornia admitted as a free st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ave trade prohibited in District of Colu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ugitive slave law (outraged Norther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Mexico and Utah territory to be admitted on basis of popular sovereig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Taylor opposes but dies, VP Fillmore supports Clay’s compro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275"/>
          <p:cNvPicPr/>
          <p:nvPr/>
        </p:nvPicPr>
        <p:blipFill>
          <a:blip r:embed="rId2"/>
          <a:stretch/>
        </p:blipFill>
        <p:spPr>
          <a:xfrm>
            <a:off x="4419720" y="2133720"/>
            <a:ext cx="446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rty System i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es need new issues after 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crats succeed (Pierce and Buchana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credit for the nation's prospe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ise to defend the Compromise of 18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gs fail, become internally divided creating numerous other parties (Free-Soilers, Republican, Know Nothings, American, etc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Kansas-Nebraska Act Raises a St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54: Douglas’s Kansas-Nebraska b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ly popular sovereignty to Kansas, Nebras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eal Missouri Compromise li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t passes on sectional vo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s a catastrophe for sectional harmony (creates Republican Par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DIVI7233281"/>
          <p:cNvPicPr/>
          <p:nvPr/>
        </p:nvPicPr>
        <p:blipFill>
          <a:blip r:embed="rId2"/>
          <a:stretch/>
        </p:blipFill>
        <p:spPr>
          <a:xfrm>
            <a:off x="4419720" y="1981080"/>
            <a:ext cx="4495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ansas and the R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public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ublican party unites former Whigs, Know-Nothings, Free-Soilers, Northern Democr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als to Northern sectional sympath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ds white, small farmers from Slave Power expansion in the W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oughout the 1850’s the following led to the rise of Republican Par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leeding Kansas/Lecompton controversy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ed Scott Decis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cle Tom’s Cab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ohn Brow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braham Lincol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IVI7233283"/>
          <p:cNvPicPr/>
          <p:nvPr/>
        </p:nvPicPr>
        <p:blipFill>
          <a:blip r:embed="rId2"/>
          <a:stretch/>
        </p:blipFill>
        <p:spPr>
          <a:xfrm>
            <a:off x="603360" y="1752480"/>
            <a:ext cx="35114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1752480"/>
            <a:ext cx="7543800" cy="2670840"/>
          </a:xfrm>
          <a:prstGeom prst="rect">
            <a:avLst/>
          </a:prstGeom>
          <a:solidFill>
            <a:srgbClr val="800080"/>
          </a:solidFill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didate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arty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Popular Vote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lectoral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han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832,9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ém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339,9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m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71,7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now-No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VI7233290"/>
          <p:cNvPicPr/>
          <p:nvPr/>
        </p:nvPicPr>
        <p:blipFill>
          <a:blip r:embed="rId2"/>
          <a:stretch/>
        </p:blipFill>
        <p:spPr>
          <a:xfrm>
            <a:off x="2057400" y="457200"/>
            <a:ext cx="5038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3:14:47Z</dcterms:created>
  <dc:creator>CMU</dc:creator>
  <dc:description/>
  <cp:keywords/>
  <dc:language>en-US</dc:language>
  <cp:lastModifiedBy>Thaddeus J. Brooks</cp:lastModifiedBy>
  <cp:lastPrinted>2012-04-13T17:13:31Z</cp:lastPrinted>
  <dcterms:modified xsi:type="dcterms:W3CDTF">2013-10-28T14:10:45Z</dcterms:modified>
  <cp:revision>24</cp:revision>
  <dc:subject/>
  <dc:title>THE SECTIONAL CRISIS</dc:title>
</cp:coreProperties>
</file>